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4AA-14DA-4AD6-A7C3-2B70491B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7D7-D9A0-4390-AD54-D0DF6ECA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B7D-A573-4650-9DBC-B04F853B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F3F-66C2-4109-B758-5ABEB6EE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84F0-7CC4-48F3-BD1F-4567CDB5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B020-EDC0-495D-A63D-C12C2F8D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789D-1958-4254-9D8C-ACB90B84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1709-BE9C-46CE-9183-D9D2D0C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09A2-83BA-49AC-843A-FD53FF2A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F69F-6D88-4894-AEF8-7B734703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9D3C-3865-4B3D-9FF7-C5BE8910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B69-0456-4B2D-979F-97FD4EF0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D4D2-281E-4442-A14C-0DFD0694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7401-8B70-4673-9263-AC66BBC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5EBC-7456-42E8-AE49-AE0B7A16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B8C2-AE3E-4160-A4DF-AE55D3F6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FC88-116F-4EC0-BA66-0C76077E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9D8-E311-4356-9AD5-A75D5EA6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934-FFF6-4D22-98F3-30F2B436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D76-F12D-48ED-AB44-9EAFDD7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E31-BBEC-4292-9396-DF48D90C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017-69DD-4C8A-8552-6AF16CBC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41C-BAC2-4C08-B747-4B8C2EA7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DAF-0CCF-4026-B2E5-429176E9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a867b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09E0-C4C4-461E-B9D1-0ABD799A2A34}" type="slidenum">
              <a:rPr b="0" lang="ar-SA" sz="1200" spc="-1" strike="noStrike">
                <a:solidFill>
                  <a:srgbClr val="5a867b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a867b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9577-8B21-4357-B36E-55C58F79916C}" type="slidenum">
              <a:rPr b="0" lang="ar-SA" sz="1200" spc="-1" strike="noStrike">
                <a:solidFill>
                  <a:srgbClr val="5a867b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213000">
            <a:off x="899640" y="2420640"/>
            <a:ext cx="72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b4c8"/>
                </a:solidFill>
                <a:latin typeface="Bradley Hand ITC"/>
              </a:rPr>
              <a:t>Communication style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58920" y="1455480"/>
            <a:ext cx="673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Good communication skills require a high level of self-awar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Understanding your personal style of communicating 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a long way toward helping you to create good and 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impressions on others.</a:t>
            </a:r>
            <a:r>
              <a:rPr b="1" lang="en-US" sz="3200" spc="-1" strike="noStrike">
                <a:solidFill>
                  <a:srgbClr val="5a867b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1315800"/>
            <a:ext cx="79912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c8d1"/>
                </a:solidFill>
                <a:latin typeface="Monotype Corsiva"/>
              </a:rPr>
              <a:t>There are three basic communication styles :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96c8d1"/>
                </a:solidFill>
                <a:latin typeface="Monotype Corsiva"/>
              </a:rPr>
              <a:t>*</a:t>
            </a:r>
            <a:r>
              <a:rPr b="1" lang="en-US" sz="3200" spc="-1" strike="noStrike">
                <a:solidFill>
                  <a:srgbClr val="96c8d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Aggressive.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96c8d1"/>
                </a:solidFill>
                <a:latin typeface="Monotype Corsiva"/>
              </a:rPr>
              <a:t>*</a:t>
            </a:r>
            <a:r>
              <a:rPr b="1" lang="en-US" sz="3200" spc="-1" strike="noStrike">
                <a:solidFill>
                  <a:srgbClr val="96c8d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Passive.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96c8d1"/>
                </a:solidFill>
                <a:latin typeface="Monotype Corsiva"/>
              </a:rPr>
              <a:t>*</a:t>
            </a:r>
            <a:r>
              <a:rPr b="1" lang="en-US" sz="3200" spc="-1" strike="noStrike">
                <a:solidFill>
                  <a:srgbClr val="96c8d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Asserti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40800" y="1628280"/>
            <a:ext cx="91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6c8d1"/>
                </a:solidFill>
                <a:uFillTx/>
                <a:latin typeface="Monotype Corsiva"/>
              </a:rPr>
              <a:t>Some elements of the </a:t>
            </a:r>
            <a:r>
              <a:rPr b="1" lang="en-US" sz="3600" spc="-1" strike="noStrike" u="sng">
                <a:solidFill>
                  <a:srgbClr val="e9cc7a"/>
                </a:solidFill>
                <a:uFillTx/>
                <a:latin typeface="Monotype Corsiva"/>
              </a:rPr>
              <a:t>Aggressive</a:t>
            </a:r>
            <a:r>
              <a:rPr b="1" lang="en-US" sz="3600" spc="-1" strike="noStrike" u="sng">
                <a:solidFill>
                  <a:srgbClr val="96c8d1"/>
                </a:solidFill>
                <a:uFillTx/>
                <a:latin typeface="Monotype Corsiva"/>
              </a:rPr>
              <a:t> Style:</a:t>
            </a:r>
            <a:r>
              <a:rPr b="0" lang="en-US" sz="1800" spc="-1" strike="noStrike">
                <a:solidFill>
                  <a:srgbClr val="96c8d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8000" y="2993040"/>
            <a:ext cx="5646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"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Every one should be like me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I am never wrong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I've got rights, but you don't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5480" y="256464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Mottos and Beliefs: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2040" y="1483560"/>
            <a:ext cx="52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Communication Styl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760" y="2134440"/>
            <a:ext cx="707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Close minded ..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Poor listener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Has difficulty seeing the other person'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point of view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Interrupts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342360" y="1539720"/>
            <a:ext cx="83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6c8d1"/>
                </a:solidFill>
                <a:uFillTx/>
                <a:latin typeface="Monotype Corsiva"/>
              </a:rPr>
              <a:t>Some elements of the </a:t>
            </a:r>
            <a:r>
              <a:rPr b="1" lang="en-US" sz="3600" spc="-1" strike="noStrike" u="sng">
                <a:solidFill>
                  <a:srgbClr val="e9cc7a"/>
                </a:solidFill>
                <a:uFillTx/>
                <a:latin typeface="Monotype Corsiva"/>
              </a:rPr>
              <a:t>Passive </a:t>
            </a:r>
            <a:r>
              <a:rPr b="1" lang="en-US" sz="3600" spc="-1" strike="noStrike" u="sng">
                <a:solidFill>
                  <a:srgbClr val="96c8d1"/>
                </a:solidFill>
                <a:uFillTx/>
                <a:latin typeface="Monotype Corsiva"/>
              </a:rPr>
              <a:t>Sty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480" y="227664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Mottos and Belief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15200" y="2997360"/>
            <a:ext cx="662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Don't express your true feeling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Don't disagree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Others have more rights than I do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24120" y="1514520"/>
            <a:ext cx="51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Communication Sty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69280" y="2053440"/>
            <a:ext cx="382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Indirect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Always agrees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Doesn't speak up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Hesitan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419760" y="1514520"/>
            <a:ext cx="79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c8d1"/>
                </a:solidFill>
                <a:uFillTx/>
                <a:latin typeface="Monotype Corsiva"/>
              </a:rPr>
              <a:t>Some elements of the </a:t>
            </a:r>
            <a:r>
              <a:rPr b="1" lang="en-US" sz="3200" spc="-1" strike="noStrike" u="sng">
                <a:solidFill>
                  <a:srgbClr val="e9cc7a"/>
                </a:solidFill>
                <a:uFillTx/>
                <a:latin typeface="Monotype Corsiva"/>
              </a:rPr>
              <a:t>Assertive</a:t>
            </a:r>
            <a:r>
              <a:rPr b="1" lang="en-US" sz="3200" spc="-1" strike="noStrike" u="sng">
                <a:solidFill>
                  <a:srgbClr val="96c8d1"/>
                </a:solidFill>
                <a:uFillTx/>
                <a:latin typeface="Monotype Corsiva"/>
              </a:rPr>
              <a:t> Style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840" y="2205000"/>
            <a:ext cx="39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cc7a"/>
                </a:solidFill>
                <a:latin typeface="Monotype Corsiva"/>
              </a:rPr>
              <a:t>**</a:t>
            </a:r>
            <a:r>
              <a:rPr b="1" lang="en-US" sz="2800" spc="-1" strike="noStrike">
                <a:solidFill>
                  <a:srgbClr val="e9cc7a"/>
                </a:solidFill>
                <a:latin typeface="Monotype Corsiva"/>
              </a:rPr>
              <a:t>Mottos and Belief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9880" y="2781360"/>
            <a:ext cx="798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Believes self and others are valuable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Knowing that assertiveness doesn't m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  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you always win, but that you handle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 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situation as effectively as possible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800" y="1700280"/>
            <a:ext cx="51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Communication Sty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7440" y="2492640"/>
            <a:ext cx="633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Effective, active listener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Expresses self directly, honestly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Checks on others feelings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1:13:55Z</dcterms:created>
  <dc:creator>style tech</dc:creator>
  <dc:description/>
  <cp:keywords/>
  <dc:language>en-US</dc:language>
  <cp:lastModifiedBy>style tech</cp:lastModifiedBy>
  <dcterms:modified xsi:type="dcterms:W3CDTF">2010-08-28T20:44:0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25</vt:lpwstr>
  </property>
</Properties>
</file>